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063-9EE2-47BD-A1EB-73FCE718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535-1B9E-46E0-9592-282CDA43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236-5EE1-42A0-A5E0-873845BD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B72-72AA-453E-BA06-BB10754C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10C-5FE7-4D60-9122-74C85BD5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45A-CC4A-4545-8640-D3877E94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EE7-8885-40C0-804C-6C784DF4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70D-FC96-446A-B4EE-5B50659F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882-F65C-4D88-BD2E-C731E7A7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A3B-9C7E-45AA-BF04-034560E1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AE2-6722-4933-936C-3391E439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2CB-9635-4770-AAA1-962A1E8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6EE-FBD2-4015-A880-F87E2498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One-Step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5040" y="2017800"/>
            <a:ext cx="65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Equations Using Addition and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1272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3733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8610480" cy="878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00200" y="4800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480060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001000" cy="1226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7924680" cy="1017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5720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4572000"/>
            <a:ext cx="609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4572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126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4038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22960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4876920"/>
            <a:ext cx="152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7242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48006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57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7150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317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7772400" cy="12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83822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124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26200" y="5635800"/>
            <a:ext cx="140832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78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9051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0512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1905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319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3497400"/>
            <a:ext cx="71629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984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81080" y="182880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6765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1828800"/>
            <a:ext cx="609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0556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984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76720" y="220968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640" y="521820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640" y="6110280"/>
            <a:ext cx="66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Solving Equations Using Multiplication and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8:02:56Z</dcterms:created>
  <dc:creator>Susannah Graham</dc:creator>
  <dc:description/>
  <dc:language>en-US</dc:language>
  <cp:lastModifiedBy>grahams</cp:lastModifiedBy>
  <dcterms:modified xsi:type="dcterms:W3CDTF">2012-09-27T13:32:17Z</dcterms:modified>
  <cp:revision>5</cp:revision>
  <dc:subject/>
  <dc:title>Lesson 2.1 Solving Two-Step Equations</dc:title>
</cp:coreProperties>
</file>